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105-0196-4704-88CA-D12FE20F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602-DC06-47C6-971D-8D1C2BB1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5AB-AAE0-475B-956C-E5AFAF6A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D20-97CF-44D6-B245-8ECB81BA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B6E8-3D08-45C3-B2F5-EC9B43CB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9583-ECED-4D2B-BB05-17CE02BD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D3AF-6648-474D-B52B-B7A5ACA3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9710-C442-4AE0-B1F1-47A200F9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C015-AA03-4345-AE08-69305438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48F2-9AED-41A7-B1B7-94B8AE7A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4BD1-4AC1-4CF8-8285-4A77EA81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A1E-CF73-45CD-90A1-B9B3C39E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4018-79A2-44F0-B358-D2A3D088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C896-5A6E-4A6A-96D7-AA82D6BE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E5BF-2EDC-4948-9E5D-B7888829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3DDF-250D-4941-B3E7-9CB0B76F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40F6-0EB1-4CB8-A818-3397ADA2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22E-1501-4605-945A-B67968C6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A70-3F8C-4477-BE76-488BB0CF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0B8-B5F2-4020-99C6-E1E5F3EE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F40-957C-4A23-8B0B-5501E9A8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B3D-1354-44F6-86FB-31309242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9FE-1892-4F3E-A75B-E28865B6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550-9541-48A6-834B-E5BF1F6C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7766-41D9-4675-B4EE-884923FB14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EA18-1D80-4CE8-824A-95016ED8FCE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АСДМ: Психијатриј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5. недеља наст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3357360"/>
            <a:ext cx="800100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Verdana"/>
              </a:rPr>
              <a:t>ЕТИЧКИ АСПЕКТИ И ЗАКОНСКА РЕГУЛАТИВА МЕНТАЛНИХ ПОРЕМЕЋАЈА, ДЕОНТОЛОШКИ ПРИСТУП У ПСИХИЈАТРИЈИ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Verdana"/>
              </a:rPr>
              <a:t>СУДСКА ПСИХИЈАТРИЈА</a:t>
            </a:r>
            <a:r>
              <a:rPr b="0" lang="sr-CS" sz="2800" spc="-1" strike="noStrike">
                <a:solidFill>
                  <a:srgbClr val="292929"/>
                </a:solidFill>
                <a:latin typeface="Arial"/>
              </a:rPr>
              <a:t> проф. др </a:t>
            </a:r>
            <a:r>
              <a:rPr b="0" lang="sr-CS" sz="2400" spc="-1" strike="noStrike">
                <a:solidFill>
                  <a:srgbClr val="292929"/>
                </a:solidFill>
                <a:latin typeface="Arial"/>
              </a:rPr>
              <a:t>Драгана проф. дрИгњатовић Ристи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92929"/>
                </a:solidFill>
                <a:latin typeface="Arial"/>
              </a:rPr>
              <a:t>доц. др Данијела Ђокови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92929"/>
                </a:solidFill>
                <a:latin typeface="Arial"/>
              </a:rPr>
              <a:t>доц. др Владимир Јањи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Picture 46" descr=""/>
          <p:cNvPicPr/>
          <p:nvPr/>
        </p:nvPicPr>
        <p:blipFill>
          <a:blip r:embed="rId1"/>
          <a:stretch/>
        </p:blipFill>
        <p:spPr>
          <a:xfrm>
            <a:off x="7308720" y="1125360"/>
            <a:ext cx="1397160" cy="1683000"/>
          </a:xfrm>
          <a:prstGeom prst="rect">
            <a:avLst/>
          </a:prstGeom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дско - психијатријска вештачења у грађанско - правној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ештачење пословне (не)способност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ештачење способности састављања тестамената и уговор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ештачење процесне способност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ештачење у поступцима развода брака и доделе дец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ештачење у поступцима накнаде нематеријалне (неимовинске) штет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удска психијатрија и проблеми везани за алкох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рви стадијум: лаког пијанства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0,5-1,5 промила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Други стадијум: право пијанство (1,5-2,5 промила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Трећи стадијум: наркотички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2,5-3,5 промила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Четврти стадијум: коматозни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&gt;3,5 промила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конски окви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Закон о правима пацијент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Закон о заштити лица са менталним сметњам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Национални водичи добре клиничке праксе (лечење депресије, схизофреније...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удска психијатрија: у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равила понашања и закон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ласт друштва: законодавна, судска и извршн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Неопходна и добра хармонизација националног и међународног законодавств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ештачењ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ојам вештачењ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Одговор Суду на основу доказа, правила струке и објективно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ештачење одређује Суд, писменим решењем, а може се одредити установа, тим или појединац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ред Судом избегавати стручне израз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удско - психијатријска вештачењ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92929"/>
                </a:solidFill>
                <a:latin typeface="Arial"/>
              </a:rPr>
              <a:t>У кривично - правној област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92929"/>
                </a:solidFill>
                <a:latin typeface="Arial"/>
              </a:rPr>
              <a:t>У грађанско - правној област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дско - психијатријска вештачења у кривично - правној области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урачунљи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292929"/>
                </a:solidFill>
                <a:latin typeface="Arial"/>
              </a:rPr>
              <a:t>Урачунљивост: способност схватања значаја извршеног дела или способност управљања сопственим поступцима у време деликтне ситуације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292929"/>
                </a:solidFill>
                <a:latin typeface="Arial"/>
              </a:rPr>
              <a:t>Урачунљивост није својство личности, већ привремена категорија о којој се вештак изјашњава, за време деликтне ситуације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дско - психијатријска вештачења у кривично - правној области</a:t>
            </a:r>
            <a:br>
              <a:rPr sz="32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способност схватања значаја свог д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Способност адекватног расуђивања, односно подразумева могућност извршиоца да спозна стварни и друштвени значај свог поступ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редуслов очувани интелектуални капацитет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92972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дско - психијатријска вештачења у кривично - правној области</a:t>
            </a:r>
            <a:br>
              <a:rPr sz="32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способност управљања својим поступц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Способност одлучивања, односно моћ особе да покреће, усмерава или контролише сопствена понашања и поступк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оследица складног одвијања когнитивних и мотивационих поступа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дско - психијатријска вештачења у кривично - правној област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роцена урачунљ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4000" spc="-1" strike="noStrike">
                <a:solidFill>
                  <a:srgbClr val="292929"/>
                </a:solidFill>
                <a:latin typeface="Arial"/>
              </a:rPr>
              <a:t>н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еурачунљивост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4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sr-BA" sz="4000" spc="-1" strike="noStrike">
                <a:solidFill>
                  <a:srgbClr val="292929"/>
                </a:solidFill>
                <a:latin typeface="Arial"/>
              </a:rPr>
              <a:t>б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итно смањење урачунљивости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урачунљивост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Up-Down Arrow 5"/>
          <p:cNvSpPr/>
          <p:nvPr/>
        </p:nvSpPr>
        <p:spPr>
          <a:xfrm>
            <a:off x="4286160" y="2143080"/>
            <a:ext cx="984240" cy="1216080"/>
          </a:xfrm>
          <a:prstGeom prst="upDownArrow">
            <a:avLst>
              <a:gd name="adj1" fmla="val 50000"/>
              <a:gd name="adj2" fmla="val 50022"/>
            </a:avLst>
          </a:prstGeom>
          <a:solidFill>
            <a:srgbClr val="cc9900"/>
          </a:solidFill>
          <a:ln w="936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Up-Down Arrow 6"/>
          <p:cNvSpPr/>
          <p:nvPr/>
        </p:nvSpPr>
        <p:spPr>
          <a:xfrm>
            <a:off x="4357800" y="4500720"/>
            <a:ext cx="984240" cy="1215720"/>
          </a:xfrm>
          <a:prstGeom prst="upDownArrow">
            <a:avLst>
              <a:gd name="adj1" fmla="val 50000"/>
              <a:gd name="adj2" fmla="val 50008"/>
            </a:avLst>
          </a:prstGeom>
          <a:solidFill>
            <a:srgbClr val="cc9900"/>
          </a:solidFill>
          <a:ln w="936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дско - психијатријска вештачења у кривично - правној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75840" indent="-37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Вештачење извршилаца кривичних дел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Вештачење сведока кривичних дел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Вештачење жртава кривичног дел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Аспекти појединих врста кривичних дела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кривична дела против живота и тела: лака телесна повреда, тешка телесна повреда и убиство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кривична дела против имовине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сексуални деликти: силовање, противприродни блуд и блудне радње и родоскрнављење (инцест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21:04:23Z</dcterms:created>
  <dc:creator>milica borovcanin</dc:creator>
  <dc:description/>
  <dc:language>en-US</dc:language>
  <cp:lastModifiedBy>Dragana Ristic</cp:lastModifiedBy>
  <dcterms:modified xsi:type="dcterms:W3CDTF">2021-05-30T07:08:10Z</dcterms:modified>
  <cp:revision>22</cp:revision>
  <dc:subject/>
  <dc:title>Мере безбедности медицинског карактера</dc:title>
</cp:coreProperties>
</file>